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3.wmf" ContentType="image/x-wmf"/>
  <Override PartName="/ppt/media/image15.jpeg" ContentType="image/jpeg"/>
  <Override PartName="/ppt/media/image4.wmf" ContentType="image/x-wmf"/>
  <Override PartName="/ppt/media/apert.wav" ContentType="audio/x-wav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BCA7E4-772E-43ED-B8AD-E065B1EB0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blemi che sono dietro al calcolo della DFS in meomria seco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scrizione dell’algoritmo… aggiugere figura x lista success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74BB45-317B-4FE5-AD95-41F893BA30C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EF4498-B14C-4DAF-8D2E-6F38850BF19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DB6F6C-CC70-43C7-BB70-6FC97ACBA85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FA6E99-926C-4DC7-85EA-F31DA9B41A0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182375-F4E0-4EF1-B878-2312B57E963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A66973-5D6F-4BDD-8BB8-EB795A91AE3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BBD442-632E-45F2-9E8E-8E9A3894765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C4F070-E9C6-48D9-B133-4DE168B0888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DAE3F5-7620-44D9-9C65-BB2230D34AE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9CDE90-BFAE-45B3-B099-FB69E58B17C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6C21E0-7681-4FEA-A34A-9A8159A966B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224CB9-145F-4396-BD25-A6E63B5B22C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D36-972C-42CB-9B1A-150ABE6B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649-5AA9-4629-A5E7-E6D664B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F70-5FC9-4DA4-8209-6919C1B4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04F-0C17-4112-89FC-D9350D89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EFF-8AF0-4474-A1EA-55DC8C02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4407-BB1D-4D1A-8ECC-E773745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BAD4-2ADE-4135-B23C-AB8A597D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100-2B6B-4F4A-A7CC-FDA7CC0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D6A5-F54F-4BEF-B5D2-E31E939E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EBAC-F9EB-41F8-9BBB-7C00BBF8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CB8A-9716-40E3-A5E2-70C908E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E4A-C315-42FD-A285-DB45814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3F7-2844-4FCF-AB3C-1EB830F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D62-88B2-4983-B672-4CA1738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CE06-9744-4C5C-B847-412FDC4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1A99-521F-4E34-9BB2-562C1A1A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3AA-611F-4EE8-8393-08079490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06A-E51F-4B5D-B48C-E0F7313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9E3-8B2F-44C6-AB0E-94F42E8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35D-D1BF-43C7-BF8D-D28040A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5FC-1619-44CE-8756-F03E911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CD7-09F0-4844-8828-0992D7D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F59-5F0F-4BA2-8996-86901C6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82-B3EF-4841-AC89-6201DF8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F50-F187-489B-A548-920AACAA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9EE-2609-4E96-B89A-A08711AF2D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apert.wav"/><Relationship Id="rId5" Type="http://schemas.openxmlformats.org/officeDocument/2006/relationships/audio" Target="../media/apert.wav"/><Relationship Id="rId6" Type="http://schemas.openxmlformats.org/officeDocument/2006/relationships/audio" Target="../media/apert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F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585792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24360" y="2133720"/>
            <a:ext cx="446400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u:verte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=GR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oreach v in succ[u] d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f (color[v]=WHITE) the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[v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FS(v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lor[u]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BLAC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[u]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</a:t>
            </a:r>
            <a:r>
              <a:rPr b="0" i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time + 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80880" y="168588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lassical Appro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38275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Lucida Sans"/>
              </a:rPr>
              <a:t>main()</a:t>
            </a:r>
            <a:r>
              <a:rPr b="0" i="1" lang="it-IT" sz="1500" spc="-1" strike="noStrike">
                <a:solidFill>
                  <a:srgbClr val="000000"/>
                </a:solidFill>
                <a:latin typeface="Lucida San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color[v]=WHIT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vertex v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if (color[v]==WHITE)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DFS(v);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15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emi-External DFS </a:t>
            </a:r>
            <a:r>
              <a:rPr b="0" lang="it-IT" sz="2100" spc="-1" strike="noStrike">
                <a:solidFill>
                  <a:srgbClr val="000000"/>
                </a:solidFill>
                <a:latin typeface="Lucida Sans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9640" y="495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bit-array fits in internal memory than a DFS takes |V| + |E|/B disk access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9640" y="1844640"/>
            <a:ext cx="7705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it array of nod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rray of successo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stack of the DFS-recurs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05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million/billion nodes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9640" y="495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observa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forest is a DFS forest if and only if there are no FORWARD CROSS edges among the non-tree edges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056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5999400" y="4411800"/>
            <a:ext cx="65016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24000" y="5991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Algorithm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Construct incrementally a tentative DFS forest which minimizes the # of those edges, in passes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Semi-External DFS </a:t>
            </a:r>
            <a:r>
              <a:rPr b="0" lang="it-IT" sz="2500" spc="-1" strike="noStrike">
                <a:solidFill>
                  <a:srgbClr val="000000"/>
                </a:solidFill>
                <a:latin typeface="Lucida Sans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7969320" cy="230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39640" y="1844640"/>
            <a:ext cx="7705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it array of nod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visited or no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rray of successo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stack of the DFS-recurs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5280" y="5991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40508"/>
                </a:solidFill>
                <a:latin typeface="Lucida Sans"/>
              </a:rPr>
              <a:t>Key assumption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assume that 2n edges, and the auxiliary data structures, fit in memory.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bserving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as hypertext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hysical network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e “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emantic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size of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at is the size of the web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web is really infinit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ynamic content, e.g., calenda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atic web contains syntactic duplication, mostly due to mirroring (~30%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me servers are seldom connec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o car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dia, and consequently the u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ngine de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at can we attempt to measur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relative sizes of search engin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 extension: e.g. engines index pages not yet crawled, by indexing anchor-tex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 restriction: All engines restrict what is indexed (first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words, only relevant words, etc.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coverage of a search engine relative to another particular crawling proces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809880" y="3429000"/>
            <a:ext cx="53341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2) * Size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 (1/6) * Size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2)*Size A = (1/6)*Size B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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A / Size B 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/6)/(1/2) = 1/3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581280" y="1863720"/>
            <a:ext cx="54864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URLs randomly from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f contained in B and vice vers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304920" y="1828800"/>
            <a:ext cx="3200400" cy="3484440"/>
            <a:chOff x="304920" y="1828800"/>
            <a:chExt cx="3200400" cy="3484440"/>
          </a:xfrm>
        </p:grpSpPr>
        <p:pic>
          <p:nvPicPr>
            <p:cNvPr id="168" name="Picture 5" descr="inter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3200400" cy="3484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1388520" y="3352680"/>
              <a:ext cx="473760" cy="228600"/>
            </a:xfrm>
            <a:prstGeom prst="rect">
              <a:avLst/>
            </a:prstGeom>
            <a:solidFill>
              <a:srgbClr val="f2f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1185480" y="3276720"/>
              <a:ext cx="88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1" name="Text Box 8"/>
          <p:cNvSpPr/>
          <p:nvPr/>
        </p:nvSpPr>
        <p:spPr>
          <a:xfrm>
            <a:off x="793800" y="6437160"/>
            <a:ext cx="78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Lucida Sans"/>
              </a:rPr>
              <a:t>Each test involves: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i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(ii) Check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61920" y="912960"/>
            <a:ext cx="722016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lative Size from Overla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iven two engines A and 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ampling UR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deal strategy: Generate a random URL and check for containment in each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Random URLs are hard to find!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4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1: Generate a random URL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contain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a given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ffices for the estimation of relativ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roach 2: Random walks or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ory: might give us a true estimate of the size of the web (as opposed to just relative sizes of index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dom URLs from random quer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523520"/>
            <a:ext cx="87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-2952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nerat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"/>
                <a:ea typeface="ＭＳ Ｐゴシック"/>
              </a:rPr>
              <a:t>random quer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how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xicon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400,000+ words from a web craw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5800" indent="-2761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junctive Queri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 vocalists AND  r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t 100 result URLs from engine 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hoose a random URL as the candidate to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che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for presence in engine B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(next slid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is distribution induces a probability weight W(p) for each pag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5200" indent="-295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jecture:  W(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 / W(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 ~ |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| / |S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733320"/>
            <a:ext cx="72198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-based chec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4240" y="1672920"/>
            <a:ext cx="80881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rong Que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check whether an engin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as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wn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. Get list of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8 low frequency words as AND query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present in result se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ar 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direc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ngine time-ou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s 8-word query good enough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vantages &amp; dis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atistically sound under the induced weigh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iases induced by random query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avors content-rich pages in the language(s) of the lexic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king bias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Use conjunctive queries &amp; fetch 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hecking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uplic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restriction bias: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ngine might not deal properly with 8 words conjunctiv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licious bia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abotage by engin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erational Problems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me-outs, failures, engine inconsistencies, index modificat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dom IP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nerate random IP addres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a web server at the given addr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there’s 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llect all pages from serv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m this, choose a page at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473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lean statist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pendent of crawling strateg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ny hosts might share one IP, or not accept requ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 guarantee all pages are linked to root page, and thus can be collected.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ower law for # pages/hosts generates bias towards sites with few pag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dom wal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View the Web as a directed grap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ild a random walk on this grap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cludes various “jump” rules back to visited 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es not get stuck in spider trap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n follow all link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verges to a stationary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ust assume graph is finite  and independent of the walk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ditions are not satisfied (many traps…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me to convergence not really know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ample from stationary distribution of wal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vantages &amp; disadvantag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atistically clean” method at least in theory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ist of seeds is a problem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actical approximation might not be vali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n-uniform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ubject to link spamm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 sampling solution is perfect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ts of new ideas 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....but the problem is getting ha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antitative studies are fascinating and a good research 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0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8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9"/>
          <p:cNvSpPr/>
          <p:nvPr/>
        </p:nvSpPr>
        <p:spPr>
          <a:xfrm>
            <a:off x="720360" y="6413400"/>
            <a:ext cx="63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components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8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ront-compression of URLs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+ delta encoding of ID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237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042920" y="4165560"/>
            <a:ext cx="3260880" cy="265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5219640" y="4135320"/>
            <a:ext cx="3287880" cy="2722680"/>
          </a:xfrm>
          <a:prstGeom prst="rect">
            <a:avLst/>
          </a:prstGeom>
          <a:ln w="0">
            <a:noFill/>
          </a:ln>
        </p:spPr>
      </p:pic>
      <p:sp>
        <p:nvSpPr>
          <p:cNvPr id="227" name="Oval 6"/>
          <p:cNvSpPr/>
          <p:nvPr/>
        </p:nvSpPr>
        <p:spPr>
          <a:xfrm>
            <a:off x="3419640" y="4724280"/>
            <a:ext cx="460080" cy="360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1187280" y="4959360"/>
            <a:ext cx="460440" cy="46836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7667640" y="4797360"/>
            <a:ext cx="376200" cy="297000"/>
            <a:chOff x="7667640" y="4797360"/>
            <a:chExt cx="376200" cy="297000"/>
          </a:xfrm>
        </p:grpSpPr>
        <p:sp>
          <p:nvSpPr>
            <p:cNvPr id="230" name="Oval 9"/>
            <p:cNvSpPr/>
            <p:nvPr/>
          </p:nvSpPr>
          <p:spPr>
            <a:xfrm>
              <a:off x="7667640" y="4797360"/>
              <a:ext cx="376200" cy="2970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7651800" y="5300640"/>
            <a:ext cx="376200" cy="297000"/>
            <a:chOff x="7651800" y="5300640"/>
            <a:chExt cx="376200" cy="297000"/>
          </a:xfrm>
        </p:grpSpPr>
        <p:sp>
          <p:nvSpPr>
            <p:cNvPr id="232" name="Oval 11"/>
            <p:cNvSpPr/>
            <p:nvPr/>
          </p:nvSpPr>
          <p:spPr>
            <a:xfrm>
              <a:off x="7651800" y="5300640"/>
              <a:ext cx="376200" cy="297000"/>
            </a:xfrm>
            <a:prstGeom prst="ellipse">
              <a:avLst/>
            </a:prstGeom>
            <a:noFill/>
            <a:ln w="36000">
              <a:solidFill>
                <a:srgbClr val="2300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3" name="Oval 12"/>
          <p:cNvSpPr/>
          <p:nvPr/>
        </p:nvSpPr>
        <p:spPr>
          <a:xfrm>
            <a:off x="3348000" y="5229360"/>
            <a:ext cx="515880" cy="468000"/>
          </a:xfrm>
          <a:prstGeom prst="ellipse">
            <a:avLst/>
          </a:prstGeom>
          <a:noFill/>
          <a:ln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5796000" y="1628640"/>
            <a:ext cx="144000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ront-coding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library </a:t>
            </a:r>
            <a:r>
              <a:rPr b="0" lang="it-IT" sz="4000" spc="-1" strike="noStrike">
                <a:solidFill>
                  <a:srgbClr val="a40508"/>
                </a:solidFill>
                <a:latin typeface="Comic Sans MS"/>
              </a:rPr>
              <a:t>Web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42800" y="5157720"/>
            <a:ext cx="83073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list S(x) = {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x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, ..., 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1}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negative entri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5110200" cy="1835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2906640" cy="9842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55520" y="3606120"/>
            <a:ext cx="28195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mpressed gap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local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lis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y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chosen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5580000" y="18900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ference ch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ssibly limi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8101080" y="3357720"/>
            <a:ext cx="358560" cy="576000"/>
          </a:xfrm>
          <a:prstGeom prst="line">
            <a:avLst/>
          </a:prstGeom>
          <a:ln w="54000">
            <a:solidFill>
              <a:srgbClr val="a405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8369280" y="2887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3995640" y="4149720"/>
            <a:ext cx="3673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3924360" y="3933720"/>
            <a:ext cx="5219640" cy="287280"/>
          </a:xfrm>
          <a:prstGeom prst="ellipse">
            <a:avLst/>
          </a:prstGeom>
          <a:noFill/>
          <a:ln w="2556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copy block is 0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f the copy list starts with 0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…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Oval 17"/>
          <p:cNvSpPr/>
          <p:nvPr/>
        </p:nvSpPr>
        <p:spPr>
          <a:xfrm>
            <a:off x="5508720" y="2205000"/>
            <a:ext cx="144360" cy="432000"/>
          </a:xfrm>
          <a:prstGeom prst="ellipse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-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9.1 and 19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7"/>
          <p:cNvGrpSpPr/>
          <p:nvPr/>
        </p:nvGrpSpPr>
        <p:grpSpPr>
          <a:xfrm>
            <a:off x="1805040" y="3382920"/>
            <a:ext cx="7338960" cy="1558800"/>
            <a:chOff x="1805040" y="3382920"/>
            <a:chExt cx="7338960" cy="1558800"/>
          </a:xfrm>
        </p:grpSpPr>
        <p:pic>
          <p:nvPicPr>
            <p:cNvPr id="272" name="Picture 6" descr=""/>
            <p:cNvPicPr/>
            <p:nvPr/>
          </p:nvPicPr>
          <p:blipFill>
            <a:blip r:embed="rId1"/>
            <a:stretch/>
          </p:blipFill>
          <p:spPr>
            <a:xfrm>
              <a:off x="1805040" y="3382920"/>
              <a:ext cx="73389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ompressing Interv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6193080" cy="1741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282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3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284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5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use their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6156360" y="1557360"/>
            <a:ext cx="2808360" cy="17272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5364000" y="3392640"/>
            <a:ext cx="3780000" cy="151272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9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290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1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292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3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294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5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296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7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static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8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5" name="AutoShape 8"/>
          <p:cNvCxnSpPr>
            <a:stCxn id="111" idx="6"/>
            <a:endCxn id="114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AutoShape 9"/>
          <p:cNvCxnSpPr>
            <a:stCxn id="111" idx="5"/>
            <a:endCxn id="112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7" name="AutoShape 10"/>
          <p:cNvCxnSpPr>
            <a:stCxn id="113" idx="7"/>
            <a:endCxn id="111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8" name="AutoShape 11"/>
          <p:cNvCxnSpPr>
            <a:stCxn id="112" idx="2"/>
            <a:endCxn id="113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AutoShape 12"/>
          <p:cNvCxnSpPr>
            <a:stCxn id="111" idx="3"/>
            <a:endCxn id="113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0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C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Find the CO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64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Iterate the following proces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Pick a random vertex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reached from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all nodes that reach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: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ompute SCC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:=  I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 </a:t>
            </a:r>
            <a:r>
              <a:rPr b="0" i="1" lang="it-IT" sz="2400" spc="-1" strike="noStrike">
                <a:solidFill>
                  <a:srgbClr val="000099"/>
                </a:solidFill>
                <a:latin typeface="Arial Narrow"/>
              </a:rPr>
              <a:t>∩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 O(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</a:rPr>
              <a:t>Check whether it is the largest S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9280" y="57704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f the CORE is about ¼ of the vertices, after 20 iterations, Pb to not find the core &lt; 1%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mpute SC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Lucida Sans"/>
              </a:rPr>
              <a:t>Classical Algorithm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ranspos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G</a:t>
            </a:r>
            <a:r>
              <a:rPr b="1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FS(G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following vertices in decreasing order of  the time their visit ended at step 1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very tree is a SC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FS hard to compute on disk: </a:t>
            </a:r>
            <a:r>
              <a:rPr b="0" i="1" lang="it-IT" sz="2600" spc="-1" strike="noStrike">
                <a:solidFill>
                  <a:srgbClr val="a40508"/>
                </a:solidFill>
                <a:latin typeface="Lucida Sans"/>
              </a:rPr>
              <a:t>no local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10-19T18:00:20Z</dcterms:modified>
  <cp:revision>1170</cp:revision>
  <dc:subject/>
  <dc:title>Web Algorithmics</dc:title>
</cp:coreProperties>
</file>